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23B-A725-4905-AD77-A1866A65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322-FAE8-4C5D-A4C0-5D5E7057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0D2-FF91-4C10-897F-DBB5CF5E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7FE-1DB3-4C9E-866F-A684811C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072-3701-4A08-B161-17E4B341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7B3-E8D5-4903-9E49-82F731F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5AA-115A-4E51-BCC2-3995493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82D-2C1C-4E8B-ACA8-6D92F5B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CC3-C85F-4F50-9938-AF48E098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667-C48B-442B-BF50-7118C5E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4E8-BC18-40BC-B95E-F9A9F16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6CD-6CE5-40A4-B888-6096DF7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0C96-6B23-4FE5-B965-B7954A9BFF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14400" y="-212760"/>
            <a:ext cx="731520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ease find your seat (name on index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W = 15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2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zes/Tests/Projects = 6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914400" y="2971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Rectangle 8" descr=""/>
          <p:cNvPicPr/>
          <p:nvPr/>
        </p:nvPicPr>
        <p:blipFill>
          <a:blip r:embed="rId2"/>
          <a:stretch/>
        </p:blipFill>
        <p:spPr>
          <a:xfrm>
            <a:off x="1828800" y="358452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82880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828800" y="4952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8288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sessments = 1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8" descr=""/>
          <p:cNvPicPr/>
          <p:nvPr/>
        </p:nvPicPr>
        <p:blipFill>
          <a:blip r:embed="rId1"/>
          <a:stretch/>
        </p:blipFill>
        <p:spPr>
          <a:xfrm>
            <a:off x="3144960" y="1517760"/>
            <a:ext cx="2732040" cy="927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304920" y="248292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Section 1.1 n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write your name in your textb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1337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541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lso teach AP Stat &amp;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447920" y="4006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arning through experiments/studies/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536400" y="-208080"/>
            <a:ext cx="7979040" cy="1774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c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09480" y="1523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ork load (HW, reading book, classwor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vel of mate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9480" y="28195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Rectangle 6" descr=""/>
          <p:cNvPicPr/>
          <p:nvPr/>
        </p:nvPicPr>
        <p:blipFill>
          <a:blip r:embed="rId1"/>
          <a:stretch/>
        </p:blipFill>
        <p:spPr>
          <a:xfrm>
            <a:off x="2882880" y="0"/>
            <a:ext cx="2908440" cy="920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TI-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8" descr=""/>
          <p:cNvPicPr/>
          <p:nvPr/>
        </p:nvPicPr>
        <p:blipFill>
          <a:blip r:embed="rId2"/>
          <a:stretch/>
        </p:blipFill>
        <p:spPr>
          <a:xfrm>
            <a:off x="2895480" y="2975040"/>
            <a:ext cx="2335320" cy="92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 we’ve talk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743200" y="649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743200" y="13352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Rectangle 6" descr=""/>
          <p:cNvPicPr/>
          <p:nvPr/>
        </p:nvPicPr>
        <p:blipFill>
          <a:blip r:embed="rId1"/>
          <a:stretch/>
        </p:blipFill>
        <p:spPr>
          <a:xfrm>
            <a:off x="2438280" y="-85680"/>
            <a:ext cx="3492720" cy="927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2743200" y="20210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tangle 8" descr=""/>
          <p:cNvPicPr/>
          <p:nvPr/>
        </p:nvPicPr>
        <p:blipFill>
          <a:blip r:embed="rId2"/>
          <a:stretch/>
        </p:blipFill>
        <p:spPr>
          <a:xfrm>
            <a:off x="0" y="2548080"/>
            <a:ext cx="9144000" cy="156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2743200" y="4114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743200" y="4800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743200" y="54100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743200" y="6059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905120" y="13352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905120" y="20210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ctangle 6" descr=""/>
          <p:cNvPicPr/>
          <p:nvPr/>
        </p:nvPicPr>
        <p:blipFill>
          <a:blip r:embed="rId1"/>
          <a:stretch/>
        </p:blipFill>
        <p:spPr>
          <a:xfrm>
            <a:off x="384120" y="500040"/>
            <a:ext cx="8478720" cy="9208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8" descr=""/>
          <p:cNvPicPr/>
          <p:nvPr/>
        </p:nvPicPr>
        <p:blipFill>
          <a:blip r:embed="rId2"/>
          <a:stretch/>
        </p:blipFill>
        <p:spPr>
          <a:xfrm>
            <a:off x="2895480" y="3468600"/>
            <a:ext cx="2494080" cy="920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1905120" y="43070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1905120" y="49928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905120" y="56786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, all MC, in Ju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Rectangle 6" descr=""/>
          <p:cNvPicPr/>
          <p:nvPr/>
        </p:nvPicPr>
        <p:blipFill>
          <a:blip r:embed="rId1"/>
          <a:stretch/>
        </p:blipFill>
        <p:spPr>
          <a:xfrm>
            <a:off x="1054080" y="146160"/>
            <a:ext cx="7126200" cy="768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838080" y="1639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re Assessments (4)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% each, done in class, 12% 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8" descr=""/>
          <p:cNvPicPr/>
          <p:nvPr/>
        </p:nvPicPr>
        <p:blipFill>
          <a:blip r:embed="rId2"/>
          <a:stretch/>
        </p:blipFill>
        <p:spPr>
          <a:xfrm>
            <a:off x="2822400" y="36576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514600" y="5181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certain day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McNelis</cp:lastModifiedBy>
  <dcterms:modified xsi:type="dcterms:W3CDTF">2012-01-25T14:23:20Z</dcterms:modified>
  <cp:revision>42</cp:revision>
  <dc:subject/>
  <dc:title>Slide 1</dc:title>
</cp:coreProperties>
</file>